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Chapter" id="0">
      <p:sldLst>
        <p:sld r:id="rId4"/>
        <p:sld r:id="rId5"/>
        <p:sld r:id="rId3"/>
      </p:sldLst>
    </p:custShow>
    <p:custShow name="ELI Sect 1" id="1">
      <p:sldLst>
        <p:sld r:id="rId4"/>
        <p:sld r:id="rId5"/>
        <p:sld r:id="rId6"/>
        <p:sld r:id="rId7"/>
        <p:sld r:id="rId8"/>
        <p:sld r:id="rId9"/>
        <p:sld r:id="rId10"/>
        <p:sld r:id="rId12"/>
        <p:sld r:id="rId13"/>
        <p:sld r:id="rId14"/>
        <p:sld r:id="rId16"/>
        <p:sld r:id="rId17"/>
        <p:sld r:id="rId18"/>
        <p:sld r:id="rId19"/>
        <p:sld r:id="rId20"/>
      </p:sldLst>
    </p:custShow>
    <p:custShow name="ELI Sect 2" id="2">
      <p:sldLst>
        <p:sld r:id="rId3"/>
      </p:sldLst>
    </p:custShow>
    <p:custShow name="ELI Sect 3" id="3">
      <p:sldLst>
        <p:sld r:id="rId3"/>
      </p:sldLst>
    </p:custShow>
    <p:custShow name="ELI Sect 4" id="4">
      <p:sldLst>
        <p:sld r:id="rId3"/>
      </p:sldLst>
    </p:custShow>
    <p:custShow name="ELI STP" id="5">
      <p:sldLst>
        <p:sld r:id="rId6"/>
        <p:sld r:id="rId17"/>
        <p:sld r:id="rId20"/>
      </p:sldLst>
    </p:custShow>
    <p:custShow name="Bellringers" id="6">
      <p:sldLst>
        <p:sld r:id="rId4"/>
      </p:sldLst>
    </p:custShow>
    <p:custShow name="Transparencies" id="7">
      <p:sldLst>
        <p:sld r:id="rId11"/>
        <p:sld r:id="rId15"/>
      </p:sldLst>
    </p:custShow>
    <p:custShow name="VIs Con" id="8">
      <p:sldLst>
        <p:sld r:id="rId3"/>
      </p:sldLst>
    </p:custShow>
    <p:custShow name="Chapter menu" id="9">
      <p:sldLst>
        <p:sld r:id="rId4"/>
        <p:sld r:id="rId5"/>
        <p:sld r:id="rId6"/>
        <p:sld r:id="rId7"/>
        <p:sld r:id="rId8"/>
        <p:sld r:id="rId9"/>
        <p:sld r:id="rId10"/>
        <p:sld r:id="rId12"/>
        <p:sld r:id="rId13"/>
        <p:sld r:id="rId14"/>
        <p:sld r:id="rId16"/>
        <p:sld r:id="rId17"/>
        <p:sld r:id="rId18"/>
        <p:sld r:id="rId19"/>
        <p:sld r:id="rId20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rth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>
            <a:hlinkClick r:id="" action="ppaction://hlinkshowjump?jump=previousslide"/>
          </p:cNvPr>
          <p:cNvSpPr/>
          <p:nvPr/>
        </p:nvSpPr>
        <p:spPr>
          <a:xfrm>
            <a:off x="4724280" y="60958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>
            <a:hlinkClick r:id="" action="ppaction://hlinkshowjump?jump=nextslide"/>
          </p:cNvPr>
          <p:cNvSpPr/>
          <p:nvPr/>
        </p:nvSpPr>
        <p:spPr>
          <a:xfrm>
            <a:off x="5715000" y="60958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781680" y="60958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>
            <a:hlinkClick r:id="" action="ppaction://hlinkshowjump?jump=endshow"/>
          </p:cNvPr>
          <p:cNvSpPr/>
          <p:nvPr/>
        </p:nvSpPr>
        <p:spPr>
          <a:xfrm>
            <a:off x="8039160" y="60958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1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ng Physical and Chemical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 of the A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c Table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ence Electrons and Periodic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tomic Numbe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rotons in the nucleus of an atom is call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tomic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toms of any given element have the same atomic number. An element’s atomic number sets the atoms of that element apart from the atoms of all other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periodic table are ordered according to their atomic numb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in the same column on the periodic table have similar arrangements of electrons in their atoms, and therefore have similar chem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tomic Numbe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981600" cy="180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4048200" cy="1809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3"/>
          <a:stretch/>
        </p:blipFill>
        <p:spPr>
          <a:xfrm>
            <a:off x="2552760" y="4290840"/>
            <a:ext cx="4076640" cy="1724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atomic numbers and mass numbers of three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tomic Numbe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1"/>
          <a:stretch/>
        </p:blipFill>
        <p:spPr>
          <a:xfrm>
            <a:off x="1701720" y="2262240"/>
            <a:ext cx="5740560" cy="36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eriodic Table Overview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75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tomic Mas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m of the number of protons and neutrons in an atom is the mass numb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s of a subatomic particle is too small to be expressed easily in grams, so a special unit call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tomic mass un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mu) is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ns and neutrons each have an atomic mass close to 1 am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have much less mass than protons or neutrons do. The mass of 1 proton is equal to the combined mass of about 1,840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tomic Mas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soto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all atoms of a given element contain the same number of protons, the number of neutrons may diff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sotop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of their different number of neutrons and their different masses, different isotopes of the same element have slightly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tomic Mas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verage Atomic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isotopes of an element have different masses, the periodic table uses an average atomic mass of each el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verage atomic 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the weighted average of the atomic masses of the naturally occurring isotopes of an el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948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alence Electrons and Periodic Properti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similarities in their chemical properties, elements on the periodic table are arranged in columns, which are called </a:t>
            </a:r>
            <a:r>
              <a:rPr b="0" i="1" lang="en-US" sz="2400" spc="-1" strike="noStrike">
                <a:solidFill>
                  <a:srgbClr val="92d050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’s chemical properties are largely determined by the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number of the outermost electrons in an atom’s electron clou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se electrons are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92d050"/>
                </a:solidFill>
                <a:latin typeface="Arial"/>
              </a:rPr>
              <a:t>valence 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ments that form each group commonly have the same number of valence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4837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alence Electrons and Periodic Properti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90200"/>
            <a:ext cx="8326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When an atom has 8 valence electrons, it is considered stable, or chemically unreac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Unreactive atoms do not easily lose or gain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Elements whose atoms have only one, two, or three valence electrons tend to lose electrons eas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se elements have metallic properties and are generally classified as </a:t>
            </a:r>
            <a:r>
              <a:rPr b="0" i="1" lang="en-US" sz="2400" spc="-1" strike="noStrike">
                <a:solidFill>
                  <a:srgbClr val="92d050"/>
                </a:solidFill>
                <a:latin typeface="Arial"/>
              </a:rPr>
              <a:t>met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Elements whose atoms have from four to seven valence electrons are more likely to gain 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Many of these elements are classified as </a:t>
            </a:r>
            <a:r>
              <a:rPr b="0" i="1" lang="en-US" sz="2400" spc="-1" strike="noStrike">
                <a:solidFill>
                  <a:srgbClr val="92d050"/>
                </a:solidFill>
                <a:latin typeface="Arial"/>
              </a:rPr>
              <a:t>nonmet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properties and physical properties of mat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asic structure of an at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umber, mass number, and atomic m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rangement of elements in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perties of Matte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t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object in the universe is made up of particles of matter.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The amount of matter in any object is the </a:t>
            </a:r>
            <a:r>
              <a:rPr b="0" i="1" lang="en-US" sz="2400" spc="-1" strike="noStrike">
                <a:solidFill>
                  <a:srgbClr val="ffc000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of that 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atter has two types of distinguishing properties-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perties of Matte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Physical properti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characteristics that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can be observed without changing th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position of the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ubst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Physical properties include density, color, hardness, freezing point, boiling 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the ability to conduct an electric curr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Chemical properties are characteristics that describe how a substance reac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other substance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to produce different substan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perties of Matte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a substance that cannot be separated or broken down into simpler substances by chemical mea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element has a characteristic set of physical and chemical properties that identify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known element is represented by a symbol of one or two let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perties of Matte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made of ato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to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ingle atom is so small that its size is difficult to imag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tomic Structur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though atoms are very tiny, they are made up of smaller parts called subatomic parti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types of subatomic particles—protons, electrons, and neu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ectr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eutr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tomic Structur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26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5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protons and neutrons of an atom form the nucleu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5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positively charged nucleus makes up most of an atom’s mass but very little of its volume. The volume of an atom is mostly empty spa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Electron Clo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5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electrons of an atom move in a certain region of space called an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electron cloud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that surrounds the nucleu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5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negatively charged electrons are attracted to the positively charged nucleus. This attraction holds electrons in the ato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arts of the Atom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62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3-09-30T15:39:23Z</dcterms:modified>
  <cp:revision>677</cp:revision>
  <dc:subject/>
  <dc:title>No Slide Title</dc:title>
</cp:coreProperties>
</file>